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C9B-C7DA-43C8-864F-FCE7C571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08C-EAF1-4BFB-AFD8-2124C897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09E-8059-4CA8-8C38-4C921D79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7EB-7671-4514-9C41-2F5E2DC1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0427-97F7-46A2-B32A-75855F8C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931A-11F2-472D-99E6-E8D9ED01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EA75-9C51-4C0D-BBDB-597373D6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22A1-4379-47B5-9465-4F19A1C7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0EC1-02F9-4166-9203-67633E4F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47F1-FAF8-4EEB-B0A4-5F534470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2EDD-7FE6-412C-AFBC-F70C50A4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353-A0E9-466F-9609-3217D05F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5AF8-D265-4533-A7DB-C1D34EDB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1217-E244-4297-8C35-CC3BAAA7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B07E-6C1B-49F0-A8AA-02274C86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B3F0-FE0C-441E-B430-E85B82A5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53BA-8E85-436E-BA22-59DD6ECF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6AB-5BFB-4DBF-9365-64990F36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D17-CF4A-4047-895D-C4A2A181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1B3-2F1A-4C78-9029-772CDB9A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B30-38F6-4856-AF47-7FBF52E4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440-B2FE-4BF3-9EE6-A15EC603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93B-B2A4-4594-8540-1D617DC6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CE4-88FA-44F5-95E9-D861D964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90C7-A5CA-4A4A-BC11-65111DFEE4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9017-5719-4F81-AA52-F4D86F7033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vira AND JES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CIM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- A POINT BETWEEN A WHOLENUMBER AND A DECIMAL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RA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- ANY PART OF A GROUP,NUMBER OR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OLE NUMB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-ALL,EVERTHING,TOTALAMOUNT,ALL THE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ARIAB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-A QUANTIY THAT CAN CHANGE OR VARY TALKING ON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PRES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-ONE OR A GROUP OF MATHEMATICAL SYMBOLS REPRESENTING A NUMBER OR QU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PON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-A SMALL NUMBER PLACE TO THE UPPER RIGHT OF A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55:29Z</dcterms:created>
  <dc:creator>shavira.samuel</dc:creator>
  <dc:description/>
  <dc:language>en-US</dc:language>
  <cp:lastModifiedBy>shavira.samuel</cp:lastModifiedBy>
  <dcterms:modified xsi:type="dcterms:W3CDTF">2010-11-23T19:37:40Z</dcterms:modified>
  <cp:revision>3</cp:revision>
  <dc:subject/>
  <dc:title>math</dc:title>
</cp:coreProperties>
</file>